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DD1A3-082B-4E69-BA9B-11ED0E18C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FCC7F-DA87-459A-BF4D-C57C10F3F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5A22F-3EA8-449B-AFDE-0D678B09D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E776B-0C68-4D9C-A3EA-E254CEB98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8A52B-6998-4295-9950-417964B96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4AD60-DFA4-400A-BDE2-554274D9E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7E87B-D6FE-493B-80AF-8F79ECD1A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71E02-E1C3-4BE8-AEF6-C5A31B67F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A9EB0-525F-417E-8F5F-A4E694898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2476B-8839-4CF5-871A-DBDDF8149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A6E46-71F4-4721-9601-43A5B9942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FCB73-C2DE-4497-AD27-A25F8BC1C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5585-0053-454C-BE7A-D04B71E6C0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5"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6" name="" descr=""/>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8"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LiviaT</cp:lastModifiedBy>
  <dcterms:modified xsi:type="dcterms:W3CDTF">2012-03-14T12:51:17Z</dcterms:modified>
  <cp:revision>42</cp:revision>
  <dc:subject/>
  <dc:title>SALARIUL</dc:title>
</cp:coreProperties>
</file>